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8E24-10D5-49C1-BB91-0130F11E5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2AC7-A52C-47F6-9B43-1D8C3605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BCB0-B351-4DEE-B88E-9A4A6B7CA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BF87-8933-47BA-8FD9-1A58201C0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F401-3E61-4F19-ADAB-70D4DD71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C392-B8E5-421B-B546-74DB8512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6D96-2C4F-4C4D-9CDE-8E0D9EED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9418-8485-4066-BD32-1EAA97A5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3E3A-C77A-4795-8A53-A93CDE7C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6406-612E-4356-B355-DABDF16A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3E4F-9F3B-4073-92EE-15298CD1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F9F8-6123-4E95-8C85-1EBFDF04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CBCC-3394-4F86-80DD-F4E585F47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6:44:21Z</dcterms:created>
  <dc:creator>CFISD</dc:creator>
  <dc:description/>
  <dc:language>en-US</dc:language>
  <cp:lastModifiedBy>CFISD</cp:lastModifiedBy>
  <dcterms:modified xsi:type="dcterms:W3CDTF">2008-12-03T16:45:41Z</dcterms:modified>
  <cp:revision>1</cp:revision>
  <dc:subject/>
  <dc:title>Slide 1</dc:title>
</cp:coreProperties>
</file>